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FB4-FED1-41CC-8C52-4E4AB1F8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9C7-EF15-496C-9DF4-270DD91F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CE6F-00A0-4F09-BB65-E0924D28A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C738-2965-40ED-A5D1-BF037552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6082-21B6-42AB-B75C-8E71F532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BF0A-6C2C-4B6E-A198-508B2427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0462-550B-43F9-9626-B73D7BE1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046A-1F5C-489C-B048-8931F1D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258C-A930-4F2D-A348-49BF4DE7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F578-E97F-49DD-92B8-C5112C7D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3997-CC0B-4AD1-BAC7-E21FF3DD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314-9517-4D8B-A000-4A059A36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8D75-1768-4CEA-8C26-ECCCF89B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A2FD-858B-4212-8FFC-3E57BDD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5CC0-21F1-432C-952D-56C5B71E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B029-4C32-4D13-86FB-42CA3C86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1E9B-22E3-4423-9FD5-728ACA7B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DFA8-D632-4CB9-B75E-E6EF01CC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549-4B1B-47DD-A447-5E0609AE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F75-5256-4F00-9F91-AB817E5E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351B-7CCB-4E33-8A7E-A141AC5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1FF-C992-4036-B9BB-684EB847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2B91-6DE9-4E23-B7C6-9D48B14D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A160-0A3A-4D22-A52E-EF50E4A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 Narrow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6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2971800" y="617220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Copyright 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© 2000 by Monica Yuskait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7C4-1947-455D-A224-0EE731D55E84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0e1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d7d4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b3e5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Arial Narrow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Arial Narrow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62a6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30B1-377B-4271-8833-24BBFD0B9525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Quadrilaterals I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by Monica Yuskaitis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981080" y="3352680"/>
            <a:ext cx="3276720" cy="251460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552960 h 2514600"/>
              <a:gd name="textAreaBottom" fmla="*/ 19616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4" name=""/>
          <p:cNvSpPr/>
          <p:nvPr/>
        </p:nvSpPr>
        <p:spPr>
          <a:xfrm>
            <a:off x="1591920" y="5249160"/>
            <a:ext cx="169236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3" y="153"/>
                </a:moveTo>
                <a:arcTo wR="10800" hR="10800" stAng="-4820065" swAng="4796468"/>
                <a:lnTo>
                  <a:pt x="10800" y="10800"/>
                </a:lnTo>
                <a:close/>
              </a:path>
              <a:path fill="none" w="21600" h="21600">
                <a:moveTo>
                  <a:pt x="12613" y="153"/>
                </a:moveTo>
                <a:arcTo wR="10800" hR="10800" stAng="-4820065" swAng="4796468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5" name=""/>
          <p:cNvSpPr/>
          <p:nvPr/>
        </p:nvSpPr>
        <p:spPr>
          <a:xfrm flipH="1" rot="10800000">
            <a:off x="1700280" y="28360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34" y="53"/>
                </a:moveTo>
                <a:arcTo wR="10800" hR="10800" stAng="-5739980" swAng="6259784"/>
                <a:lnTo>
                  <a:pt x="10800" y="10800"/>
                </a:lnTo>
                <a:close/>
              </a:path>
              <a:path fill="none" w="21600" h="21600">
                <a:moveTo>
                  <a:pt x="9734" y="53"/>
                </a:moveTo>
                <a:arcTo wR="10800" hR="10800" stAng="-5739980" swAng="625978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6" name=""/>
          <p:cNvSpPr/>
          <p:nvPr/>
        </p:nvSpPr>
        <p:spPr>
          <a:xfrm flipH="1" rot="16200000">
            <a:off x="4381200" y="295884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3963600" y="525600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8" name=""/>
          <p:cNvSpPr/>
          <p:nvPr/>
        </p:nvSpPr>
        <p:spPr>
          <a:xfrm>
            <a:off x="2515680" y="38592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9" name=""/>
          <p:cNvSpPr/>
          <p:nvPr/>
        </p:nvSpPr>
        <p:spPr>
          <a:xfrm>
            <a:off x="2515680" y="464832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3811320" y="38592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1" name=""/>
          <p:cNvSpPr/>
          <p:nvPr/>
        </p:nvSpPr>
        <p:spPr>
          <a:xfrm>
            <a:off x="3582360" y="464832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34290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3962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5" name=""/>
          <p:cNvSpPr/>
          <p:nvPr/>
        </p:nvSpPr>
        <p:spPr>
          <a:xfrm>
            <a:off x="6095880" y="449568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6" name=""/>
          <p:cNvSpPr/>
          <p:nvPr/>
        </p:nvSpPr>
        <p:spPr>
          <a:xfrm>
            <a:off x="5791320" y="5181480"/>
            <a:ext cx="15238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7" name=""/>
          <p:cNvSpPr/>
          <p:nvPr/>
        </p:nvSpPr>
        <p:spPr>
          <a:xfrm>
            <a:off x="5716080" y="4572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6095880" y="5105520"/>
            <a:ext cx="119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828800" y="3352680"/>
            <a:ext cx="3581280" cy="2286000"/>
          </a:xfrm>
          <a:prstGeom prst="parallelogram">
            <a:avLst>
              <a:gd name="adj" fmla="val 39165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2" name=""/>
          <p:cNvSpPr/>
          <p:nvPr/>
        </p:nvSpPr>
        <p:spPr>
          <a:xfrm flipH="1" rot="17487000">
            <a:off x="4704120" y="2994120"/>
            <a:ext cx="1158120" cy="108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3" name=""/>
          <p:cNvSpPr/>
          <p:nvPr/>
        </p:nvSpPr>
        <p:spPr>
          <a:xfrm rot="17179800">
            <a:off x="3854880" y="517536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4" name=""/>
          <p:cNvSpPr/>
          <p:nvPr/>
        </p:nvSpPr>
        <p:spPr>
          <a:xfrm>
            <a:off x="4039920" y="36576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5" name=""/>
          <p:cNvSpPr/>
          <p:nvPr/>
        </p:nvSpPr>
        <p:spPr>
          <a:xfrm>
            <a:off x="3353760" y="464832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2439720" y="464832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7" name=""/>
          <p:cNvSpPr/>
          <p:nvPr/>
        </p:nvSpPr>
        <p:spPr>
          <a:xfrm>
            <a:off x="2896560" y="365760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3429000"/>
            <a:ext cx="9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3962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1" name=""/>
          <p:cNvSpPr/>
          <p:nvPr/>
        </p:nvSpPr>
        <p:spPr>
          <a:xfrm>
            <a:off x="6095880" y="449568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2" name=""/>
          <p:cNvSpPr/>
          <p:nvPr/>
        </p:nvSpPr>
        <p:spPr>
          <a:xfrm>
            <a:off x="5791320" y="5181480"/>
            <a:ext cx="15238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3" name=""/>
          <p:cNvSpPr/>
          <p:nvPr/>
        </p:nvSpPr>
        <p:spPr>
          <a:xfrm>
            <a:off x="5716080" y="45720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5105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5" name=""/>
          <p:cNvSpPr/>
          <p:nvPr/>
        </p:nvSpPr>
        <p:spPr>
          <a:xfrm flipH="1" rot="6687000">
            <a:off x="1392840" y="488520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6" name=""/>
          <p:cNvSpPr/>
          <p:nvPr/>
        </p:nvSpPr>
        <p:spPr>
          <a:xfrm rot="6379800">
            <a:off x="2004480" y="2659320"/>
            <a:ext cx="137268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92" y="79"/>
                </a:moveTo>
                <a:arcTo wR="10800" hR="10800" stAng="-5817324" swAng="5825845"/>
                <a:lnTo>
                  <a:pt x="10800" y="10800"/>
                </a:lnTo>
                <a:close/>
              </a:path>
              <a:path fill="none" w="21600" h="21600">
                <a:moveTo>
                  <a:pt x="9492" y="79"/>
                </a:moveTo>
                <a:arcTo wR="10800" hR="10800" stAng="-5817324" swAng="582584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2362320"/>
            <a:ext cx="457200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9" name=""/>
          <p:cNvSpPr/>
          <p:nvPr/>
        </p:nvSpPr>
        <p:spPr>
          <a:xfrm>
            <a:off x="1162440" y="4267080"/>
            <a:ext cx="128340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0" name=""/>
          <p:cNvSpPr/>
          <p:nvPr/>
        </p:nvSpPr>
        <p:spPr>
          <a:xfrm flipH="1" rot="10800000">
            <a:off x="1346040" y="1846080"/>
            <a:ext cx="1088280" cy="12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1" name=""/>
          <p:cNvSpPr/>
          <p:nvPr/>
        </p:nvSpPr>
        <p:spPr>
          <a:xfrm flipH="1" rot="16200000">
            <a:off x="5673600" y="1940400"/>
            <a:ext cx="1158120" cy="1139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5638320" y="4229280"/>
            <a:ext cx="1371240" cy="1141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3" name=""/>
          <p:cNvSpPr/>
          <p:nvPr/>
        </p:nvSpPr>
        <p:spPr>
          <a:xfrm>
            <a:off x="2362320" y="2666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4" name=""/>
          <p:cNvSpPr/>
          <p:nvPr/>
        </p:nvSpPr>
        <p:spPr>
          <a:xfrm>
            <a:off x="236232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5" name=""/>
          <p:cNvSpPr/>
          <p:nvPr/>
        </p:nvSpPr>
        <p:spPr>
          <a:xfrm>
            <a:off x="4935600" y="2666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6" name=""/>
          <p:cNvSpPr/>
          <p:nvPr/>
        </p:nvSpPr>
        <p:spPr>
          <a:xfrm>
            <a:off x="5106600" y="38862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7" name=""/>
          <p:cNvSpPr/>
          <p:nvPr/>
        </p:nvSpPr>
        <p:spPr>
          <a:xfrm>
            <a:off x="6918480" y="223344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7432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9" name=""/>
          <p:cNvSpPr/>
          <p:nvPr/>
        </p:nvSpPr>
        <p:spPr>
          <a:xfrm>
            <a:off x="6950160" y="325296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0" name=""/>
          <p:cNvSpPr/>
          <p:nvPr/>
        </p:nvSpPr>
        <p:spPr>
          <a:xfrm>
            <a:off x="7240320" y="37339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1" name=""/>
          <p:cNvSpPr/>
          <p:nvPr/>
        </p:nvSpPr>
        <p:spPr>
          <a:xfrm>
            <a:off x="6705360" y="43434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343400"/>
            <a:ext cx="1143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6554520" y="37339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057400" y="2743200"/>
            <a:ext cx="3276720" cy="2514600"/>
          </a:xfrm>
          <a:custGeom>
            <a:avLst/>
            <a:gdLst>
              <a:gd name="textAreaLeft" fmla="*/ 720360 w 3276720"/>
              <a:gd name="textAreaRight" fmla="*/ 2556360 w 3276720"/>
              <a:gd name="textAreaTop" fmla="*/ 552960 h 2514600"/>
              <a:gd name="textAreaBottom" fmla="*/ 19616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06" name=""/>
          <p:cNvSpPr/>
          <p:nvPr/>
        </p:nvSpPr>
        <p:spPr>
          <a:xfrm>
            <a:off x="1668600" y="4639680"/>
            <a:ext cx="169164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3" y="153"/>
                </a:moveTo>
                <a:arcTo wR="10800" hR="10800" stAng="-4820065" swAng="4796468"/>
                <a:lnTo>
                  <a:pt x="10800" y="10800"/>
                </a:lnTo>
                <a:close/>
              </a:path>
              <a:path fill="none" w="21600" h="21600">
                <a:moveTo>
                  <a:pt x="12613" y="153"/>
                </a:moveTo>
                <a:arcTo wR="10800" hR="10800" stAng="-4820065" swAng="4796468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7" name=""/>
          <p:cNvSpPr/>
          <p:nvPr/>
        </p:nvSpPr>
        <p:spPr>
          <a:xfrm flipH="1" rot="10800000">
            <a:off x="1775520" y="222660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734" y="53"/>
                </a:moveTo>
                <a:arcTo wR="10800" hR="10800" stAng="-5739980" swAng="6259784"/>
                <a:lnTo>
                  <a:pt x="10800" y="10800"/>
                </a:lnTo>
                <a:close/>
              </a:path>
              <a:path fill="none" w="21600" h="21600">
                <a:moveTo>
                  <a:pt x="9734" y="53"/>
                </a:moveTo>
                <a:arcTo wR="10800" hR="10800" stAng="-5739980" swAng="625978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8" name=""/>
          <p:cNvSpPr/>
          <p:nvPr/>
        </p:nvSpPr>
        <p:spPr>
          <a:xfrm flipH="1" rot="16200000">
            <a:off x="4457160" y="234936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4039920" y="464652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0" name=""/>
          <p:cNvSpPr/>
          <p:nvPr/>
        </p:nvSpPr>
        <p:spPr>
          <a:xfrm>
            <a:off x="2592000" y="324972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4038480"/>
            <a:ext cx="4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2" name=""/>
          <p:cNvSpPr/>
          <p:nvPr/>
        </p:nvSpPr>
        <p:spPr>
          <a:xfrm>
            <a:off x="3887280" y="324972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3" name=""/>
          <p:cNvSpPr/>
          <p:nvPr/>
        </p:nvSpPr>
        <p:spPr>
          <a:xfrm>
            <a:off x="3658680" y="403848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4" name=""/>
          <p:cNvSpPr/>
          <p:nvPr/>
        </p:nvSpPr>
        <p:spPr>
          <a:xfrm>
            <a:off x="6553440" y="25909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5" name=""/>
          <p:cNvSpPr/>
          <p:nvPr/>
        </p:nvSpPr>
        <p:spPr>
          <a:xfrm>
            <a:off x="6553440" y="31240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7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6" name=""/>
          <p:cNvSpPr/>
          <p:nvPr/>
        </p:nvSpPr>
        <p:spPr>
          <a:xfrm>
            <a:off x="6248160" y="3657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7" name=""/>
          <p:cNvSpPr/>
          <p:nvPr/>
        </p:nvSpPr>
        <p:spPr>
          <a:xfrm>
            <a:off x="6859080" y="419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4876920"/>
            <a:ext cx="144756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9" name=""/>
          <p:cNvSpPr/>
          <p:nvPr/>
        </p:nvSpPr>
        <p:spPr>
          <a:xfrm>
            <a:off x="6021000" y="42670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6248160" y="4800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905120" y="2819520"/>
            <a:ext cx="3581280" cy="2286000"/>
          </a:xfrm>
          <a:prstGeom prst="parallelogram">
            <a:avLst>
              <a:gd name="adj" fmla="val 39165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23" name=""/>
          <p:cNvSpPr/>
          <p:nvPr/>
        </p:nvSpPr>
        <p:spPr>
          <a:xfrm flipH="1" rot="17487000">
            <a:off x="4779360" y="2461680"/>
            <a:ext cx="115884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4" name=""/>
          <p:cNvSpPr/>
          <p:nvPr/>
        </p:nvSpPr>
        <p:spPr>
          <a:xfrm rot="17179800">
            <a:off x="3931200" y="4641840"/>
            <a:ext cx="13712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18" y="1"/>
                </a:moveTo>
                <a:arcTo wR="10800" hR="10800" stAng="-5362583" swAng="5371104"/>
                <a:lnTo>
                  <a:pt x="10800" y="10800"/>
                </a:lnTo>
                <a:close/>
              </a:path>
              <a:path fill="none" w="21600" h="21600">
                <a:moveTo>
                  <a:pt x="10918" y="1"/>
                </a:moveTo>
                <a:arcTo wR="10800" hR="10800" stAng="-5362583" swAng="537110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5" name=""/>
          <p:cNvSpPr/>
          <p:nvPr/>
        </p:nvSpPr>
        <p:spPr>
          <a:xfrm>
            <a:off x="4115880" y="312408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6" name=""/>
          <p:cNvSpPr/>
          <p:nvPr/>
        </p:nvSpPr>
        <p:spPr>
          <a:xfrm>
            <a:off x="3430080" y="411480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7" name=""/>
          <p:cNvSpPr/>
          <p:nvPr/>
        </p:nvSpPr>
        <p:spPr>
          <a:xfrm>
            <a:off x="2515680" y="411480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8" name=""/>
          <p:cNvSpPr/>
          <p:nvPr/>
        </p:nvSpPr>
        <p:spPr>
          <a:xfrm>
            <a:off x="3049560" y="31240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25909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0" name=""/>
          <p:cNvSpPr/>
          <p:nvPr/>
        </p:nvSpPr>
        <p:spPr>
          <a:xfrm>
            <a:off x="6400800" y="3124080"/>
            <a:ext cx="91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6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1" name=""/>
          <p:cNvSpPr/>
          <p:nvPr/>
        </p:nvSpPr>
        <p:spPr>
          <a:xfrm>
            <a:off x="6095880" y="3657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15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2" name=""/>
          <p:cNvSpPr/>
          <p:nvPr/>
        </p:nvSpPr>
        <p:spPr>
          <a:xfrm>
            <a:off x="6706800" y="419112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4876920"/>
            <a:ext cx="13716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4" name=""/>
          <p:cNvSpPr/>
          <p:nvPr/>
        </p:nvSpPr>
        <p:spPr>
          <a:xfrm>
            <a:off x="5868720" y="419112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5" name=""/>
          <p:cNvSpPr/>
          <p:nvPr/>
        </p:nvSpPr>
        <p:spPr>
          <a:xfrm>
            <a:off x="6095880" y="480060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6" name=""/>
          <p:cNvSpPr/>
          <p:nvPr/>
        </p:nvSpPr>
        <p:spPr>
          <a:xfrm flipH="1" rot="6687000">
            <a:off x="1469160" y="4352040"/>
            <a:ext cx="1158120" cy="1083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14" y="2"/>
                </a:moveTo>
                <a:arcTo wR="10800" hR="10800" stAng="-5331810" swAng="5851613"/>
                <a:lnTo>
                  <a:pt x="10800" y="10800"/>
                </a:lnTo>
                <a:close/>
              </a:path>
              <a:path fill="none" w="21600" h="21600">
                <a:moveTo>
                  <a:pt x="11014" y="2"/>
                </a:moveTo>
                <a:arcTo wR="10800" hR="10800" stAng="-5331810" swAng="5851613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37" name=""/>
          <p:cNvSpPr/>
          <p:nvPr/>
        </p:nvSpPr>
        <p:spPr>
          <a:xfrm rot="6379800">
            <a:off x="2081160" y="2125800"/>
            <a:ext cx="1373040" cy="1221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492" y="79"/>
                </a:moveTo>
                <a:arcTo wR="10800" hR="10800" stAng="-5817324" swAng="5825845"/>
                <a:lnTo>
                  <a:pt x="10800" y="10800"/>
                </a:lnTo>
                <a:close/>
              </a:path>
              <a:path fill="none" w="21600" h="21600">
                <a:moveTo>
                  <a:pt x="9492" y="79"/>
                </a:moveTo>
                <a:arcTo wR="10800" hR="10800" stAng="-5817324" swAng="582584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837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39" name=""/>
          <p:cNvSpPr/>
          <p:nvPr/>
        </p:nvSpPr>
        <p:spPr>
          <a:xfrm>
            <a:off x="2133720" y="2895480"/>
            <a:ext cx="266688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0" name=""/>
          <p:cNvSpPr/>
          <p:nvPr/>
        </p:nvSpPr>
        <p:spPr>
          <a:xfrm>
            <a:off x="1503360" y="480060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1" name=""/>
          <p:cNvSpPr/>
          <p:nvPr/>
        </p:nvSpPr>
        <p:spPr>
          <a:xfrm flipH="1" rot="10800000">
            <a:off x="1701360" y="23788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2" name=""/>
          <p:cNvSpPr/>
          <p:nvPr/>
        </p:nvSpPr>
        <p:spPr>
          <a:xfrm flipH="1" rot="16200000">
            <a:off x="4142520" y="243540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4114800" y="472464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4" name=""/>
          <p:cNvSpPr/>
          <p:nvPr/>
        </p:nvSpPr>
        <p:spPr>
          <a:xfrm>
            <a:off x="2514600" y="33526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5" name=""/>
          <p:cNvSpPr/>
          <p:nvPr/>
        </p:nvSpPr>
        <p:spPr>
          <a:xfrm>
            <a:off x="2438640" y="42670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4038480" y="3352680"/>
            <a:ext cx="4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7" name=""/>
          <p:cNvSpPr/>
          <p:nvPr/>
        </p:nvSpPr>
        <p:spPr>
          <a:xfrm>
            <a:off x="3581640" y="42670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8" name=""/>
          <p:cNvSpPr/>
          <p:nvPr/>
        </p:nvSpPr>
        <p:spPr>
          <a:xfrm>
            <a:off x="6400800" y="27432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49" name=""/>
          <p:cNvSpPr/>
          <p:nvPr/>
        </p:nvSpPr>
        <p:spPr>
          <a:xfrm>
            <a:off x="6400800" y="32767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0" name=""/>
          <p:cNvSpPr/>
          <p:nvPr/>
        </p:nvSpPr>
        <p:spPr>
          <a:xfrm>
            <a:off x="640080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1" name=""/>
          <p:cNvSpPr/>
          <p:nvPr/>
        </p:nvSpPr>
        <p:spPr>
          <a:xfrm>
            <a:off x="6706800" y="434340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2" name=""/>
          <p:cNvSpPr/>
          <p:nvPr/>
        </p:nvSpPr>
        <p:spPr>
          <a:xfrm>
            <a:off x="6019920" y="502920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434340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6172200" y="495288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What is the missing angle?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456" name=""/>
          <p:cNvSpPr/>
          <p:nvPr/>
        </p:nvSpPr>
        <p:spPr>
          <a:xfrm>
            <a:off x="6400800" y="2438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58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7" name=""/>
          <p:cNvSpPr/>
          <p:nvPr/>
        </p:nvSpPr>
        <p:spPr>
          <a:xfrm>
            <a:off x="6400800" y="29718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81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8" name=""/>
          <p:cNvSpPr/>
          <p:nvPr/>
        </p:nvSpPr>
        <p:spPr>
          <a:xfrm>
            <a:off x="6095880" y="35053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09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59" name=""/>
          <p:cNvSpPr/>
          <p:nvPr/>
        </p:nvSpPr>
        <p:spPr>
          <a:xfrm>
            <a:off x="6706800" y="40384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0" name=""/>
          <p:cNvSpPr/>
          <p:nvPr/>
        </p:nvSpPr>
        <p:spPr>
          <a:xfrm>
            <a:off x="5943600" y="472428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1" name=""/>
          <p:cNvSpPr/>
          <p:nvPr/>
        </p:nvSpPr>
        <p:spPr>
          <a:xfrm>
            <a:off x="5792400" y="40384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2" name=""/>
          <p:cNvSpPr/>
          <p:nvPr/>
        </p:nvSpPr>
        <p:spPr>
          <a:xfrm>
            <a:off x="6095880" y="46483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3" name=""/>
          <p:cNvSpPr/>
          <p:nvPr/>
        </p:nvSpPr>
        <p:spPr>
          <a:xfrm rot="366600">
            <a:off x="1676160" y="2438280"/>
            <a:ext cx="3581280" cy="2819520"/>
          </a:xfrm>
          <a:custGeom>
            <a:avLst/>
            <a:gdLst/>
            <a:ahLst/>
            <a:rect l="l" t="t" r="r" b="b"/>
            <a:pathLst>
              <a:path w="2256" h="1776">
                <a:moveTo>
                  <a:pt x="912" y="0"/>
                </a:moveTo>
                <a:lnTo>
                  <a:pt x="1920" y="240"/>
                </a:lnTo>
                <a:lnTo>
                  <a:pt x="2256" y="1536"/>
                </a:lnTo>
                <a:lnTo>
                  <a:pt x="0" y="1776"/>
                </a:lnTo>
                <a:lnTo>
                  <a:pt x="912" y="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4" name=""/>
          <p:cNvSpPr/>
          <p:nvPr/>
        </p:nvSpPr>
        <p:spPr>
          <a:xfrm flipH="1" rot="15862200">
            <a:off x="4285080" y="2375280"/>
            <a:ext cx="1159920" cy="108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58" y="669"/>
                </a:moveTo>
                <a:arcTo wR="10800" hR="10800" stAng="-6616472" swAng="6347534"/>
                <a:lnTo>
                  <a:pt x="10800" y="10800"/>
                </a:lnTo>
                <a:close/>
              </a:path>
              <a:path fill="none" w="21600" h="21600">
                <a:moveTo>
                  <a:pt x="7058" y="669"/>
                </a:moveTo>
                <a:arcTo wR="10800" hR="10800" stAng="-6616472" swAng="6347534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5" name=""/>
          <p:cNvSpPr/>
          <p:nvPr/>
        </p:nvSpPr>
        <p:spPr>
          <a:xfrm flipH="1" rot="12758400">
            <a:off x="2691720" y="1798200"/>
            <a:ext cx="1158120" cy="12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2" y="1"/>
                </a:moveTo>
                <a:arcTo wR="10800" hR="10800" stAng="-5354887" swAng="6200241"/>
                <a:lnTo>
                  <a:pt x="10800" y="10800"/>
                </a:lnTo>
                <a:close/>
              </a:path>
              <a:path fill="none" w="21600" h="21600">
                <a:moveTo>
                  <a:pt x="10942" y="1"/>
                </a:moveTo>
                <a:arcTo wR="10800" hR="10800" stAng="-5354887" swAng="6200241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 rot="16891800">
            <a:off x="4271400" y="4549320"/>
            <a:ext cx="1372320" cy="122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2" y="0"/>
                </a:moveTo>
                <a:arcTo wR="10800" hR="10800" stAng="-5399327" swAng="5254885"/>
                <a:lnTo>
                  <a:pt x="10800" y="10800"/>
                </a:lnTo>
                <a:close/>
              </a:path>
              <a:path fill="none" w="21600" h="21600">
                <a:moveTo>
                  <a:pt x="10802" y="0"/>
                </a:moveTo>
                <a:arcTo wR="10800" hR="10800" stAng="-5399327" swAng="525488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 rot="493800">
            <a:off x="867600" y="4347360"/>
            <a:ext cx="1692360" cy="122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13" y="153"/>
                </a:moveTo>
                <a:arcTo wR="10800" hR="10800" stAng="-4820065" swAng="4796468"/>
                <a:lnTo>
                  <a:pt x="10800" y="10800"/>
                </a:lnTo>
                <a:close/>
              </a:path>
              <a:path fill="none" w="21600" h="21600">
                <a:moveTo>
                  <a:pt x="12613" y="153"/>
                </a:moveTo>
                <a:arcTo wR="10800" hR="10800" stAng="-4820065" swAng="4796468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8" name=""/>
          <p:cNvSpPr/>
          <p:nvPr/>
        </p:nvSpPr>
        <p:spPr>
          <a:xfrm>
            <a:off x="3811320" y="403848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81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9" name=""/>
          <p:cNvSpPr/>
          <p:nvPr/>
        </p:nvSpPr>
        <p:spPr>
          <a:xfrm>
            <a:off x="2439720" y="4038480"/>
            <a:ext cx="84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58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0" name=""/>
          <p:cNvSpPr/>
          <p:nvPr/>
        </p:nvSpPr>
        <p:spPr>
          <a:xfrm>
            <a:off x="2820240" y="2895480"/>
            <a:ext cx="110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09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3200400"/>
            <a:ext cx="4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Polygon 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– a closed many straight-sided figure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3429000"/>
            <a:ext cx="2133720" cy="213372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Angle 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– two rays that meet at a common end point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971800" y="3657240"/>
            <a:ext cx="0" cy="167652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3" name=""/>
          <p:cNvSpPr/>
          <p:nvPr/>
        </p:nvSpPr>
        <p:spPr>
          <a:xfrm>
            <a:off x="2971800" y="5334120"/>
            <a:ext cx="373392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Degree 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– a unit of measurement of an angle or arc, represented by the symbol º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124080" y="3504960"/>
            <a:ext cx="0" cy="205740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3124080" y="5562720"/>
            <a:ext cx="3124440" cy="0"/>
          </a:xfrm>
          <a:prstGeom prst="line">
            <a:avLst/>
          </a:prstGeom>
          <a:ln w="5724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 rot="904800">
            <a:off x="2716560" y="5061240"/>
            <a:ext cx="91440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84" y="989"/>
                </a:moveTo>
                <a:arcTo wR="10800" hR="10800" stAng="-6883027" swAng="5820093"/>
                <a:lnTo>
                  <a:pt x="10800" y="10800"/>
                </a:lnTo>
                <a:close/>
              </a:path>
              <a:path fill="none" w="21600" h="21600">
                <a:moveTo>
                  <a:pt x="6284" y="989"/>
                </a:moveTo>
                <a:arcTo wR="10800" hR="10800" stAng="-6883027" swAng="5820093"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3581280" y="4419720"/>
            <a:ext cx="91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Definition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Quadrilateral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 – a polygon with 4 angles and 4 straight sides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733920"/>
            <a:ext cx="3962520" cy="213336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Quadrilateral Family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4267080"/>
            <a:ext cx="1143000" cy="111924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6781680" y="2514600"/>
            <a:ext cx="1524240" cy="89532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1905120"/>
            <a:ext cx="2895480" cy="1044360"/>
          </a:xfrm>
          <a:prstGeom prst="parallelogram">
            <a:avLst>
              <a:gd name="adj" fmla="val 150177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4343400"/>
            <a:ext cx="1600200" cy="1119240"/>
          </a:xfrm>
          <a:prstGeom prst="parallelogram">
            <a:avLst>
              <a:gd name="adj" fmla="val 35743"/>
            </a:avLst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8" name=""/>
          <p:cNvSpPr/>
          <p:nvPr/>
        </p:nvSpPr>
        <p:spPr>
          <a:xfrm>
            <a:off x="826920" y="2421000"/>
            <a:ext cx="1524240" cy="1119240"/>
          </a:xfrm>
          <a:custGeom>
            <a:avLst/>
            <a:gdLst>
              <a:gd name="textAreaLeft" fmla="*/ 335160 w 1524240"/>
              <a:gd name="textAreaRight" fmla="*/ 1189080 w 1524240"/>
              <a:gd name="textAreaTop" fmla="*/ 245880 h 1119240"/>
              <a:gd name="textAreaBottom" fmla="*/ 873360 h 111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9" name=""/>
          <p:cNvSpPr/>
          <p:nvPr/>
        </p:nvSpPr>
        <p:spPr>
          <a:xfrm>
            <a:off x="2592000" y="2895480"/>
            <a:ext cx="30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arallelogram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0" name=""/>
          <p:cNvSpPr/>
          <p:nvPr/>
        </p:nvSpPr>
        <p:spPr>
          <a:xfrm>
            <a:off x="6553800" y="3352680"/>
            <a:ext cx="204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rectangle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2363400" y="5410080"/>
            <a:ext cx="19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rhombus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2" name=""/>
          <p:cNvSpPr/>
          <p:nvPr/>
        </p:nvSpPr>
        <p:spPr>
          <a:xfrm>
            <a:off x="5259240" y="5334120"/>
            <a:ext cx="150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quare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3" name=""/>
          <p:cNvSpPr/>
          <p:nvPr/>
        </p:nvSpPr>
        <p:spPr>
          <a:xfrm>
            <a:off x="457920" y="3505320"/>
            <a:ext cx="20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trapezoid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6" name=""/>
          <p:cNvSpPr/>
          <p:nvPr/>
        </p:nvSpPr>
        <p:spPr>
          <a:xfrm>
            <a:off x="2209680" y="3276720"/>
            <a:ext cx="487692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1578960" y="5181480"/>
            <a:ext cx="137196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 flipH="1" rot="10800000">
            <a:off x="1777320" y="2760480"/>
            <a:ext cx="1158840" cy="12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 flipH="1" rot="16200000">
            <a:off x="6428880" y="28162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6400800" y="510552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3581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2819520" y="4724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5639040" y="3581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5639040" y="4800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3352680"/>
            <a:ext cx="487692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8" name=""/>
          <p:cNvSpPr/>
          <p:nvPr/>
        </p:nvSpPr>
        <p:spPr>
          <a:xfrm>
            <a:off x="512640" y="525780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 flipH="1" rot="10800000">
            <a:off x="710640" y="283608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0" name=""/>
          <p:cNvSpPr/>
          <p:nvPr/>
        </p:nvSpPr>
        <p:spPr>
          <a:xfrm flipH="1" rot="16200000">
            <a:off x="5362560" y="2892600"/>
            <a:ext cx="1158840" cy="1216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 rot="16200000">
            <a:off x="5334120" y="5181480"/>
            <a:ext cx="13712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1676520" y="3657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3" name=""/>
          <p:cNvSpPr/>
          <p:nvPr/>
        </p:nvSpPr>
        <p:spPr>
          <a:xfrm>
            <a:off x="1752840" y="4800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572000" y="36576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8769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73152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7" name=""/>
          <p:cNvSpPr/>
          <p:nvPr/>
        </p:nvSpPr>
        <p:spPr>
          <a:xfrm>
            <a:off x="7315200" y="34290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7315200" y="39625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44956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6934320" y="518148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1" name=""/>
          <p:cNvSpPr/>
          <p:nvPr/>
        </p:nvSpPr>
        <p:spPr>
          <a:xfrm>
            <a:off x="6859080" y="4495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2" name=""/>
          <p:cNvSpPr/>
          <p:nvPr/>
        </p:nvSpPr>
        <p:spPr>
          <a:xfrm>
            <a:off x="7086600" y="5105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b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800" spc="-1" strike="noStrike">
                <a:solidFill>
                  <a:srgbClr val="362a60"/>
                </a:solidFill>
                <a:latin typeface="Arial Narrow"/>
              </a:rPr>
              <a:t>Property of Quadrilaterals</a:t>
            </a:r>
            <a:endParaRPr b="0" lang="en-US" sz="4800" spc="-1" strike="noStrike">
              <a:solidFill>
                <a:srgbClr val="362a6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 Narrow"/>
              </a:rPr>
              <a:t>The sum of all the angles equals 360º degrees</a:t>
            </a:r>
            <a:r>
              <a:rPr b="0" lang="en-US" sz="4400" spc="-1" strike="noStrike">
                <a:solidFill>
                  <a:srgbClr val="333333"/>
                </a:solidFill>
                <a:latin typeface="Arial Narrow"/>
              </a:rPr>
              <a:t>.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5" name=""/>
          <p:cNvSpPr/>
          <p:nvPr/>
        </p:nvSpPr>
        <p:spPr>
          <a:xfrm>
            <a:off x="2133720" y="3352680"/>
            <a:ext cx="2666880" cy="2514600"/>
          </a:xfrm>
          <a:prstGeom prst="rect">
            <a:avLst/>
          </a:prstGeom>
          <a:solidFill>
            <a:srgbClr val="f5cdd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6" name=""/>
          <p:cNvSpPr/>
          <p:nvPr/>
        </p:nvSpPr>
        <p:spPr>
          <a:xfrm>
            <a:off x="1503360" y="525780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7" name=""/>
          <p:cNvSpPr/>
          <p:nvPr/>
        </p:nvSpPr>
        <p:spPr>
          <a:xfrm flipH="1" rot="10800000">
            <a:off x="1701360" y="2836080"/>
            <a:ext cx="115812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8" name=""/>
          <p:cNvSpPr/>
          <p:nvPr/>
        </p:nvSpPr>
        <p:spPr>
          <a:xfrm flipH="1" rot="16200000">
            <a:off x="4142520" y="2892600"/>
            <a:ext cx="1158840" cy="12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51" y="356"/>
                </a:moveTo>
                <a:arcTo wR="10800" hR="10800" stAng="-6284912" swAng="6804716"/>
                <a:lnTo>
                  <a:pt x="10800" y="10800"/>
                </a:lnTo>
                <a:close/>
              </a:path>
              <a:path fill="none" w="21600" h="21600">
                <a:moveTo>
                  <a:pt x="8051" y="356"/>
                </a:moveTo>
                <a:arcTo wR="10800" hR="10800" stAng="-6284912" swAng="6804716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4114800" y="5181840"/>
            <a:ext cx="137124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928" y="35"/>
                </a:moveTo>
                <a:arcTo wR="10800" hR="10800" stAng="-5677915" swAng="5677915"/>
                <a:lnTo>
                  <a:pt x="10800" y="10800"/>
                </a:lnTo>
                <a:close/>
              </a:path>
              <a:path fill="none" w="21600" h="21600">
                <a:moveTo>
                  <a:pt x="9928" y="35"/>
                </a:moveTo>
                <a:arcTo wR="10800" hR="10800" stAng="-5677915" swAng="5677915"/>
              </a:path>
            </a:pathLst>
          </a:cu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1" name=""/>
          <p:cNvSpPr/>
          <p:nvPr/>
        </p:nvSpPr>
        <p:spPr>
          <a:xfrm>
            <a:off x="2438640" y="4724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2" name=""/>
          <p:cNvSpPr/>
          <p:nvPr/>
        </p:nvSpPr>
        <p:spPr>
          <a:xfrm>
            <a:off x="3505320" y="38098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3" name=""/>
          <p:cNvSpPr/>
          <p:nvPr/>
        </p:nvSpPr>
        <p:spPr>
          <a:xfrm>
            <a:off x="3581640" y="47242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28954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342900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6" name=""/>
          <p:cNvSpPr/>
          <p:nvPr/>
        </p:nvSpPr>
        <p:spPr>
          <a:xfrm>
            <a:off x="6400800" y="396252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7" name=""/>
          <p:cNvSpPr/>
          <p:nvPr/>
        </p:nvSpPr>
        <p:spPr>
          <a:xfrm>
            <a:off x="6400800" y="4495680"/>
            <a:ext cx="91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9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8" name=""/>
          <p:cNvSpPr/>
          <p:nvPr/>
        </p:nvSpPr>
        <p:spPr>
          <a:xfrm>
            <a:off x="6019920" y="5181480"/>
            <a:ext cx="129528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9" name=""/>
          <p:cNvSpPr/>
          <p:nvPr/>
        </p:nvSpPr>
        <p:spPr>
          <a:xfrm>
            <a:off x="5944680" y="4495680"/>
            <a:ext cx="4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50" name=""/>
          <p:cNvSpPr/>
          <p:nvPr/>
        </p:nvSpPr>
        <p:spPr>
          <a:xfrm>
            <a:off x="6172200" y="5105520"/>
            <a:ext cx="119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60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º</a:t>
            </a:r>
            <a:endParaRPr b="0" lang="en-US" sz="44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05:02:54Z</dcterms:created>
  <dc:creator>Monica/Bob Yuskaitis</dc:creator>
  <dc:description/>
  <dc:language>en-US</dc:language>
  <cp:lastModifiedBy>utente</cp:lastModifiedBy>
  <cp:lastPrinted>2007-12-10T16:24:22Z</cp:lastPrinted>
  <dcterms:modified xsi:type="dcterms:W3CDTF">2007-12-10T16:27:33Z</dcterms:modified>
  <cp:revision>9</cp:revision>
  <dc:subject/>
  <dc:title>Triangles I</dc:title>
</cp:coreProperties>
</file>